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3698-D8C0-41D1-ACC6-C18B6B54D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96D7-E8F0-4B9A-BD53-D8CA59109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5107-002A-49C1-8419-33D5F5B75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13E8-0F50-4A42-940C-67F16687A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991B-DB0E-4F77-9822-0AB957495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B37C-D01F-469F-B728-0EC2046F9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37D0-4C18-40B5-8A2E-550EF7248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D6ED-EEDE-481E-AC37-7901FD9D2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D32F-5ACD-4F12-8C7E-30D8DFF8F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80DC-0930-42CE-857C-C561902E5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F4F9-F9C2-4E05-A306-547A6ED68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91BE-3088-4524-881F-21B4F95C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EE824-AE0E-42C3-9CE0-06AECA393C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2357280" y="1695600"/>
            <a:ext cx="4429440" cy="346680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rryAndHall-McKim_Fig9_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5079960" y="6350040"/>
            <a:ext cx="444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3095640" y="1952640"/>
            <a:ext cx="2952720" cy="295272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rryAndHall-McKim_Fig9_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5079960" y="6350040"/>
            <a:ext cx="444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"/>
          <p:cNvPicPr/>
          <p:nvPr/>
        </p:nvPicPr>
        <p:blipFill>
          <a:blip r:embed="rId1"/>
          <a:stretch/>
        </p:blipFill>
        <p:spPr>
          <a:xfrm>
            <a:off x="2357280" y="2282760"/>
            <a:ext cx="4429440" cy="2292480"/>
          </a:xfrm>
          <a:prstGeom prst="rect">
            <a:avLst/>
          </a:prstGeom>
          <a:ln w="0">
            <a:noFill/>
          </a:ln>
        </p:spPr>
      </p:pic>
      <p:sp>
        <p:nvSpPr>
          <p:cNvPr id="48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rryAndHall-McKim_Fig9_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5079960" y="6350040"/>
            <a:ext cx="444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2357280" y="1809720"/>
            <a:ext cx="4429440" cy="323856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1270080" y="127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rryAndHall-McKim_Fig9_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5079960" y="6350040"/>
            <a:ext cx="444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© Cambridge University Press 201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03T10:49:33Z</dcterms:created>
  <dc:creator>StephenKumar, SampathKumar</dc:creator>
  <dc:description/>
  <dc:language>en-US</dc:language>
  <cp:lastModifiedBy>StephenKumar, SampathKumar</cp:lastModifiedBy>
  <dcterms:modified xsi:type="dcterms:W3CDTF">2018-07-03T10:49:35Z</dcterms:modified>
  <cp:revision>1</cp:revision>
  <dc:subject/>
  <dc:title>PowerPoint Presentation</dc:title>
</cp:coreProperties>
</file>